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52F-2FBD-43B7-BE64-FA807F1C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E61-C2DE-4AF5-BBA8-0D0F972D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A0D-DA47-4579-AC87-AD170712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24-4A14-4A0A-B704-2F5AA97C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B3F-B446-4BA8-8EB0-02A09BFD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85E-760E-4900-8194-280839F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B5D-0531-426E-9BFA-A8923727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A13-0F70-423A-BF8F-6113D71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7E1-9EA5-4D30-91E3-67995B2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606-BE19-402C-9915-9117D3C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BF8-C8C9-430C-8A75-1D74E415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0AE-2FD7-4A37-9B3F-B317DFD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B821-9BD8-45AC-9486-0C512E1F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2725560" y="4941720"/>
            <a:ext cx="1256040" cy="114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2268360" y="2781360"/>
            <a:ext cx="131472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4859280" y="2536920"/>
            <a:ext cx="1314360" cy="125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5302080" y="4826160"/>
            <a:ext cx="131472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978360" y="5229360"/>
            <a:ext cx="1314360" cy="113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 flipV="1">
            <a:off x="5365800" y="616572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 flipV="1">
            <a:off x="3930480" y="6163920"/>
            <a:ext cx="13680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241720" y="5518080"/>
            <a:ext cx="40320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224000" y="1916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900000" y="25639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191280" y="17431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912000" y="260676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7020000" y="6056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728720" y="6346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3600360" y="6400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389240" y="5337000"/>
            <a:ext cx="806400" cy="3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7121520" y="54072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5148360" y="634680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058840" y="230184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20800" y="2771640"/>
            <a:ext cx="4032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 flipH="1">
            <a:off x="5867280" y="2224080"/>
            <a:ext cx="201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>
            <a:off x="6302160" y="2874960"/>
            <a:ext cx="35244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6616800" y="5300640"/>
            <a:ext cx="425520" cy="1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 flipH="1" flipV="1">
            <a:off x="6587640" y="5840280"/>
            <a:ext cx="303480" cy="19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 flipV="1">
            <a:off x="2490840" y="6092640"/>
            <a:ext cx="352440" cy="19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3995640" y="3932280"/>
            <a:ext cx="1108080" cy="988920"/>
          </a:xfrm>
          <a:custGeom>
            <a:avLst/>
            <a:gdLst>
              <a:gd name="textAreaLeft" fmla="*/ 148320 w 1108080"/>
              <a:gd name="textAreaRight" fmla="*/ 959760 w 1108080"/>
              <a:gd name="textAreaTop" fmla="*/ 172800 h 988920"/>
              <a:gd name="textAreaBottom" fmla="*/ 71712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7956720" y="260280"/>
            <a:ext cx="93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4"/>
          <p:cNvSpPr/>
          <p:nvPr/>
        </p:nvSpPr>
        <p:spPr>
          <a:xfrm>
            <a:off x="3506760" y="231948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5"/>
          <p:cNvSpPr/>
          <p:nvPr/>
        </p:nvSpPr>
        <p:spPr>
          <a:xfrm>
            <a:off x="4788000" y="167796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6"/>
          <p:cNvSpPr/>
          <p:nvPr/>
        </p:nvSpPr>
        <p:spPr>
          <a:xfrm>
            <a:off x="2700360" y="17128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 flipH="1">
            <a:off x="4500360" y="20732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3492360" y="200016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9"/>
          <p:cNvSpPr/>
          <p:nvPr/>
        </p:nvSpPr>
        <p:spPr>
          <a:xfrm>
            <a:off x="5651640" y="361620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7364520" y="43639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7272360" y="3500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2"/>
          <p:cNvSpPr/>
          <p:nvPr/>
        </p:nvSpPr>
        <p:spPr>
          <a:xfrm flipH="1">
            <a:off x="6883200" y="350028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 flipH="1" flipV="1">
            <a:off x="6989760" y="4309920"/>
            <a:ext cx="303120" cy="19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4"/>
          <p:cNvSpPr/>
          <p:nvPr/>
        </p:nvSpPr>
        <p:spPr>
          <a:xfrm>
            <a:off x="1860480" y="4005360"/>
            <a:ext cx="131436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749160" y="350028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539640" y="4473720"/>
            <a:ext cx="75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7"/>
          <p:cNvSpPr/>
          <p:nvPr/>
        </p:nvSpPr>
        <p:spPr>
          <a:xfrm>
            <a:off x="1584360" y="3886200"/>
            <a:ext cx="352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8"/>
          <p:cNvSpPr/>
          <p:nvPr/>
        </p:nvSpPr>
        <p:spPr>
          <a:xfrm>
            <a:off x="1360440" y="4681440"/>
            <a:ext cx="403200" cy="4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2475000" y="28224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7"/>
          <p:cNvSpPr/>
          <p:nvPr/>
        </p:nvSpPr>
        <p:spPr>
          <a:xfrm>
            <a:off x="3736800" y="233352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8"/>
          <p:cNvSpPr/>
          <p:nvPr/>
        </p:nvSpPr>
        <p:spPr>
          <a:xfrm>
            <a:off x="5118120" y="25239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9"/>
          <p:cNvSpPr/>
          <p:nvPr/>
        </p:nvSpPr>
        <p:spPr>
          <a:xfrm>
            <a:off x="5911920" y="36576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5605560" y="48261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4254480" y="522936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2"/>
          <p:cNvSpPr/>
          <p:nvPr/>
        </p:nvSpPr>
        <p:spPr>
          <a:xfrm>
            <a:off x="3016080" y="494028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3"/>
          <p:cNvSpPr/>
          <p:nvPr/>
        </p:nvSpPr>
        <p:spPr>
          <a:xfrm>
            <a:off x="2138400" y="40482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4"/>
          <p:cNvSpPr/>
          <p:nvPr/>
        </p:nvSpPr>
        <p:spPr>
          <a:xfrm>
            <a:off x="685800" y="24444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ผนภาพ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OBJECTIVES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br>
              <a:rPr sz="28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ส่วนงา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น่วย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ยุทธศาสตร์ที่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โครงการ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ัตถุประสงค์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0T10:17:50Z</cp:lastPrinted>
  <dcterms:modified xsi:type="dcterms:W3CDTF">2017-10-10T10:17:58Z</dcterms:modified>
  <cp:revision>37</cp:revision>
  <dc:subject/>
  <dc:title>KEY  PROCESS</dc:title>
</cp:coreProperties>
</file>